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notesMasterIdLst>
    <p:notesMasterId r:id="rId25"/>
  </p:notes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notesMaster" Target="notesMasters/notesMaster1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8766-545D-4DC1-804B-4AD2564D1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02F9-25CB-4AAC-B3D3-D54AFDC48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9DB5-924D-4CBA-B11C-6A214614B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Rescheduling or Renaming Memorized Trans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AD98-59A5-41BE-93C8-3BD584B26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 Editing Memorized Transa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ACCB-CE75-4FE0-B468-3C4E0B27F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deleting a memorized trans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89CF-00C6-430A-A140-144252C58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7D0C-3251-4E4F-924B-195D50271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9AB8-770F-4652-82C1-9F6F22E7F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mo closing sole proprietorship drawing account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31A2-59B8-474B-882B-C8A879E7B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closing partnership drawing accou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AE7C-F004-49D0-96F5-A75A24690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mo distributing net income to partn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F58D-3B01-414D-9773-C5C19C1A1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mo setting the closing dat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8185-E0FA-406B-A3C9-CC70E5495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A9F0-5B05-4A1E-8A09-CFC3F2558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2926-9D30-44EF-9011-18198DD2A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Editing Transactions. Demo Voiding and Deleting Trans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7297-4707-4CC1-8A17-32AFDC991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2CD6-45AC-4961-BE1A-B24FD1136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 Creating A General Journal Entr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E91F-5DD1-4400-B843-9EB7BFBED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106D-D5BF-4F16-A2E7-F81EE76A4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creating a Zero-Dollar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481F-99DB-4C46-80DE-A8C26CEBB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F084-2341-4284-93C1-5AB9364C8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Memorizing Journal E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C004C-DC64-4AE9-BE60-5921F7447F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7DE1D-9370-4896-8F10-A88808B5A82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63364-A671-4555-BCE4-929C204A6F3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68EE0-E2AE-4EB4-B74F-57EFCE3DD7D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3FD48-DEEF-414F-B354-9B37D89CFD9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19520-2206-4BBC-BC83-791F6B7A9FA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2AF86-A622-4C05-82C1-25855B3A6B1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F29B6-8D90-49AF-885F-DA371A26437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A1031-E026-4EF4-92FA-88643FC79FF6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0C1EE-5818-4863-8DBB-E3CE75CA5A8D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981B5-B2E2-44E7-B69A-14086CD2913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8103C-8B5A-44CF-A5E3-78775B2BA1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48B02-F8D3-4E5C-ACB3-FA153E8BB0DE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0C503-0D42-4EE4-8F4E-BCA5618DCE4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63DD3-1E8F-4391-8E75-5BE6854917C0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499D5-5E1A-4E03-96EB-4FA3BC13EEFF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2E5FD-79CA-4524-BDBB-5695A1B5EB41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840E-B1F6-4EE3-AF29-EF80F80FDA12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D9F0-D5A0-4EB8-9460-E93C86BF8CF1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CC24-7BA6-4CF8-85C9-B74DFE483DC2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ABD2-654B-468F-AEEA-6FA8F97CA4A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ACE7-F5E9-47BD-89AD-8326DF0A51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ACA4E-8E53-4F3B-8EB4-616974385C2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BCD8-B5B2-46CC-B1CA-C7303B05F9C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8227-629F-4BF7-A7E4-DBDAF5DF233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3A2A-16D4-42AA-8613-F93EC21D4D4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BD54-477B-4158-BB1A-2D58F7C670B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9B10-A74F-42E1-8D64-F0832178A87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7AE8-197D-44F8-9726-4736A565205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C671-AFF9-4931-98C2-0A0FFD4D6E8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7845-8DF1-4536-9616-7E793698E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8AA1-58DC-47B6-85D3-91DE5440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48D5A-E763-4821-8228-AF150FB8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42E75-D11C-4520-AF49-1687EAAF6D0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194B-9415-4B3F-9532-2778405F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4DB0-B6CD-4794-BD79-542A9F08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8C04-4E4C-4477-B00F-FFD7EFBD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81A2-F51A-4812-A4FC-0B7D2112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C118-9E12-40F5-9F95-8CD4E61F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1AC7-7B66-4564-9293-2DC70DE4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3E1A-406A-490B-AAD5-5103BBCF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E984-8E50-44F1-B7BA-A94BC710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1746-4BF5-488A-9C55-024CE7A69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59436-F6D5-4895-9078-6B9A82849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B4DBD-4633-41B9-A422-BB95C4388BC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30BB6-4C31-4847-B4B3-96D0931B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9118E-0DD5-464C-B3C9-26701157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0E92F-DC4F-4803-842E-CF0B9F62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E5FEE-72BD-47CC-AEED-1A7E03B3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C6D61-168F-4389-8447-597DF94C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DBD33-FE75-479F-81DD-D13C029B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BC2B5-9EC1-4DBE-A2C7-378F9B05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14A03-D00C-443E-98E5-648CEE29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079EE-38B2-4E96-BB2C-EBEA522C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38FD9-8346-43E2-B947-583D9A58F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35F5E-DD28-451B-8553-7D4A992BF0E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CE5D3-0535-4787-BF06-553528246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F758E-3F41-4D33-8955-A02DDFE3C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1C2D8-197D-401A-A048-72849547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EA7E3-4DB6-4B6C-B871-C913BB57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49B97-DAF9-4124-863C-3473CA0D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C5F71-DF35-43C1-8B2A-D54AF563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A9A0D-C222-4717-B96E-6ED1E6F6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AB5FA-929C-418F-B5D2-154D28A6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91F75-DD2F-4CC9-9D26-905D967E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013EF-C869-4C20-9EBF-42398F75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A9417-1393-4E84-ADEE-F4E1AA3267D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18AED-0C93-4CC2-BAA9-47387E1F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0184C-BED8-46E5-818C-60F76B360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61F8B-4076-4A04-BF2A-590BB14C1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4A099-49FA-44D7-A0BB-197984004C2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20A9F-FD10-405E-B1EA-16B8146E1AE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F776-70DE-4DCE-8CCF-F7D2D6F4B4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0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4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9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3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7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2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6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1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5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9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0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6fa600"/>
              </a:gs>
              <a:gs pos="50000">
                <a:srgbClr val="abea3c"/>
              </a:gs>
              <a:gs pos="100000">
                <a:srgbClr val="6fa6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7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d9d9d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16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fea0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0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2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Picture 2" descr=""/>
          <p:cNvPicPr/>
          <p:nvPr/>
        </p:nvPicPr>
        <p:blipFill>
          <a:blip r:embed="rId4"/>
          <a:stretch/>
        </p:blipFill>
        <p:spPr>
          <a:xfrm>
            <a:off x="228600" y="5197320"/>
            <a:ext cx="1143000" cy="15145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D038-FDE1-4FE1-A60C-4F9ED4ECBE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4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8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8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3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3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7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7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78F9-4040-4B08-AFE2-D6AAFEE416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5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E664-71CD-4E29-A5E1-73AA89A3D6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7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8AA9-5B5F-4BA9-9D1B-9C8FFAEC37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2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1"/>
          </p:nvPr>
        </p:nvSpPr>
        <p:spPr>
          <a:xfrm>
            <a:off x="5638680" y="6408720"/>
            <a:ext cx="299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E176-F9EC-4F77-AB9B-8BC9AE5741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1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9d9d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5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e3d2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e3d2d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69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9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29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4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Rectangle 7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156520" cy="2139840"/>
          </a:xfrm>
          <a:prstGeom prst="rect">
            <a:avLst/>
          </a:prstGeom>
          <a:ln w="0">
            <a:noFill/>
          </a:ln>
        </p:spPr>
      </p:pic>
      <p:sp>
        <p:nvSpPr>
          <p:cNvPr id="102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Lucida Sans Unicode"/>
              </a:rPr>
              <a:t>201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Rectangle 4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521920" cy="1573200"/>
          </a:xfrm>
          <a:prstGeom prst="rect">
            <a:avLst/>
          </a:prstGeom>
          <a:ln w="0">
            <a:noFill/>
          </a:ln>
        </p:spPr>
      </p:pic>
      <p:sp>
        <p:nvSpPr>
          <p:cNvPr id="1044" name="Rectangle 10"/>
          <p:cNvSpPr/>
          <p:nvPr/>
        </p:nvSpPr>
        <p:spPr>
          <a:xfrm>
            <a:off x="457200" y="1523880"/>
            <a:ext cx="83059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is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menu and then select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morized Transaction Li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or press CTRL+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the transaction in th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emorized Transac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st Then select 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dit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nu and select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dit Memorized Transaction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 press CTRL+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llows you to reschedule or rename the transaction, but it does not allow you to edit the actual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Rectangle 2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650080" cy="1230120"/>
          </a:xfrm>
          <a:prstGeom prst="rect">
            <a:avLst/>
          </a:prstGeom>
          <a:ln w="0">
            <a:noFill/>
          </a:ln>
        </p:spPr>
      </p:pic>
      <p:sp>
        <p:nvSpPr>
          <p:cNvPr id="1046" name="Rectangle 7"/>
          <p:cNvSpPr/>
          <p:nvPr/>
        </p:nvSpPr>
        <p:spPr>
          <a:xfrm>
            <a:off x="457200" y="1523880"/>
            <a:ext cx="83059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edit the Truck Depreciation memorized transaction, double-click it in 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morized Transaction Lis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isplays a new transaction with the contents of the memorized transaction. You can change anything on the transaction and then rememoriz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7" name="Picture 4" descr="SNAGHTML1300c16"/>
          <p:cNvPicPr/>
          <p:nvPr/>
        </p:nvPicPr>
        <p:blipFill>
          <a:blip r:embed="rId2"/>
          <a:stretch/>
        </p:blipFill>
        <p:spPr>
          <a:xfrm>
            <a:off x="1600200" y="4191120"/>
            <a:ext cx="5824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Rectangle 2" descr=""/>
          <p:cNvPicPr/>
          <p:nvPr/>
        </p:nvPicPr>
        <p:blipFill>
          <a:blip r:embed="rId1"/>
          <a:stretch/>
        </p:blipFill>
        <p:spPr>
          <a:xfrm>
            <a:off x="165240" y="231840"/>
            <a:ext cx="8600760" cy="1163520"/>
          </a:xfrm>
          <a:prstGeom prst="rect">
            <a:avLst/>
          </a:prstGeom>
          <a:ln w="0">
            <a:noFill/>
          </a:ln>
        </p:spPr>
      </p:pic>
      <p:sp>
        <p:nvSpPr>
          <p:cNvPr id="1049" name=""/>
          <p:cNvSpPr txBox="1"/>
          <p:nvPr/>
        </p:nvSpPr>
        <p:spPr>
          <a:xfrm>
            <a:off x="457200" y="1599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Select the Lists menu and then select Memorized Transaction List, or press CTRL+T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Select the Memorized Transaction in the list that you want to delet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Select the Edit menu and then select Delete Memorized Transaction, or press CTRL+D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051" name=""/>
          <p:cNvSpPr txBox="1"/>
          <p:nvPr/>
        </p:nvSpPr>
        <p:spPr>
          <a:xfrm>
            <a:off x="53352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t the end of your company’s fiscal year, QuickBooks automatically transfers the net income into Retained Earning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QuickBooks calculates the balance in Retained Earnings by adding together the total net income for all prior yea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Rectangle 2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30120"/>
          </a:xfrm>
          <a:prstGeom prst="rect">
            <a:avLst/>
          </a:prstGeom>
          <a:ln w="0">
            <a:noFill/>
          </a:ln>
        </p:spPr>
      </p:pic>
      <p:sp>
        <p:nvSpPr>
          <p:cNvPr id="1053" name=""/>
          <p:cNvSpPr txBox="1"/>
          <p:nvPr/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un reports for the year and verify their accurac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nter adjusting entries as necessary and rerun the repor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int and file the following reports as of your closing date: General Ledger, Balance Sheet Standard, Statement of Cash Flows, Trial Balance, Inventory Valuation Summary, and Profit &amp; Loss Standard for the ye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ack up your data fil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t the closing date to the last day of the period you are clos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772840" cy="1573200"/>
          </a:xfrm>
          <a:prstGeom prst="rect">
            <a:avLst/>
          </a:prstGeom>
          <a:ln w="0">
            <a:noFill/>
          </a:ln>
        </p:spPr>
      </p:pic>
      <p:sp>
        <p:nvSpPr>
          <p:cNvPr id="105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r Sole Proprietorships, the Retained Earnings account should be renamed to Owners Equity so that the net income (or loss) will automatically transfer into this accou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t the end of each year, create a General Journal Entry to zero out the Owners Drawing account and close it into Owners Equi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t is best to let the balance in the Owner Investments account continue to accumulate over time, so that, the Balance Sheet will always show the total investments made by the own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  <p:sp>
        <p:nvSpPr>
          <p:cNvPr id="1057" name=""/>
          <p:cNvSpPr txBox="1"/>
          <p:nvPr/>
        </p:nvSpPr>
        <p:spPr>
          <a:xfrm>
            <a:off x="457200" y="16765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Use a General Journal Entry to close the Partner’s Drawing accounts into each Partner’s Profits account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o find the amounts for the General Journal Entry, use the year-end Trial Balanc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58" name="Picture 4" descr="SNAGHTML1671df2"/>
          <p:cNvPicPr/>
          <p:nvPr/>
        </p:nvPicPr>
        <p:blipFill>
          <a:blip r:embed="rId2"/>
          <a:stretch/>
        </p:blipFill>
        <p:spPr>
          <a:xfrm>
            <a:off x="1447920" y="4038480"/>
            <a:ext cx="65595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Rectangle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515440" cy="1170000"/>
          </a:xfrm>
          <a:prstGeom prst="rect">
            <a:avLst/>
          </a:prstGeom>
          <a:ln w="0">
            <a:noFill/>
          </a:ln>
        </p:spPr>
      </p:pic>
      <p:sp>
        <p:nvSpPr>
          <p:cNvPr id="1060" name=""/>
          <p:cNvSpPr txBox="1"/>
          <p:nvPr/>
        </p:nvSpPr>
        <p:spPr>
          <a:xfrm>
            <a:off x="457200" y="15238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ith partnerships, use a General Journal Entry to distribute the profits to each of the partner’s profit accoun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fter making all adjusting entries, create a Profit &amp; Loss report for the year and use the Net Income figure at the bottom of the Profit &amp; Loss report to create the General Journal Entr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61" name="Picture 5" descr=""/>
          <p:cNvPicPr/>
          <p:nvPr/>
        </p:nvPicPr>
        <p:blipFill>
          <a:blip r:embed="rId2"/>
          <a:stretch/>
        </p:blipFill>
        <p:spPr>
          <a:xfrm>
            <a:off x="1425600" y="3886200"/>
            <a:ext cx="6292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  <p:sp>
        <p:nvSpPr>
          <p:cNvPr id="106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ickBooks allows the Administrator to set a closing date that effectively locks the file so that no one can make changes to the file on or after a specified da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further protection, all users, including the Administrator, can be required to enter a password before they can add, change or delete transactions dated on or before the closing da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065" name=""/>
          <p:cNvSpPr txBox="1"/>
          <p:nvPr/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dit, void, and delete transact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nter general journal entr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emorize and schedule transactions to be automatically enter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lose the year and enter special transactions for sole proprietorships and partnership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t the closing date to lock the company fil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025" name=""/>
          <p:cNvSpPr txBox="1"/>
          <p:nvPr/>
        </p:nvSpPr>
        <p:spPr>
          <a:xfrm>
            <a:off x="457200" y="164592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Edit, void, and delete transactions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Enter general journal entries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Memorize and schedule transactions to be automatically entered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Close the year and enter special transactions for sole proprietorships and partnerships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Set the closing date to lock the company file 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Rectangle 2" descr=""/>
          <p:cNvPicPr/>
          <p:nvPr/>
        </p:nvPicPr>
        <p:blipFill>
          <a:blip r:embed="rId1"/>
          <a:stretch/>
        </p:blipFill>
        <p:spPr>
          <a:xfrm>
            <a:off x="274680" y="219240"/>
            <a:ext cx="8412120" cy="1401480"/>
          </a:xfrm>
          <a:prstGeom prst="rect">
            <a:avLst/>
          </a:prstGeom>
          <a:ln w="0">
            <a:noFill/>
          </a:ln>
        </p:spPr>
      </p:pic>
      <p:sp>
        <p:nvSpPr>
          <p:cNvPr id="102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Unlike many other accounting programs, QuickBooks allows you to change any transaction at any tim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o edit a transaction, change the data directly on the form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Voiding and deleting transactions both zero out the debits and the credits specified by the transaction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oiding keeps a record of the date, number, and detail of the transac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leting a transaction removes it completely from your fil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759880" cy="1573200"/>
          </a:xfrm>
          <a:prstGeom prst="rect">
            <a:avLst/>
          </a:prstGeom>
          <a:ln w="0">
            <a:noFill/>
          </a:ln>
        </p:spPr>
      </p:pic>
      <p:sp>
        <p:nvSpPr>
          <p:cNvPr id="10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djusting entries are transactions that adjust the balance of one or more account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 few examples of adjusting entries in QuickBook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categorize a transaction from one class to anoth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categorize a transaction from one account to anoth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llocate prepaid expenses to each month throughout the ye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cord non-cash expenses, such as depreci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lose the Owner’s Drawing account into the Owner’s Equity account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Rectangle 2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667720" cy="1230120"/>
          </a:xfrm>
          <a:prstGeom prst="rect">
            <a:avLst/>
          </a:prstGeom>
          <a:ln w="0">
            <a:noFill/>
          </a:ln>
        </p:spPr>
      </p:pic>
      <p:sp>
        <p:nvSpPr>
          <p:cNvPr id="1031" name="Rectangle 8"/>
          <p:cNvSpPr/>
          <p:nvPr/>
        </p:nvSpPr>
        <p:spPr>
          <a:xfrm>
            <a:off x="457200" y="1600200"/>
            <a:ext cx="7848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need permission from the file Administrator to create General Journal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nu and then 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e Journal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2" name="Picture 4" descr="SNAGHTML129239c"/>
          <p:cNvPicPr/>
          <p:nvPr/>
        </p:nvPicPr>
        <p:blipFill>
          <a:blip r:embed="rId2"/>
          <a:stretch/>
        </p:blipFill>
        <p:spPr>
          <a:xfrm>
            <a:off x="3048120" y="2971800"/>
            <a:ext cx="49528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Rectangle 2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667720" cy="1230120"/>
          </a:xfrm>
          <a:prstGeom prst="rect">
            <a:avLst/>
          </a:prstGeom>
          <a:ln w="0">
            <a:noFill/>
          </a:ln>
        </p:spPr>
      </p:pic>
      <p:sp>
        <p:nvSpPr>
          <p:cNvPr id="1034" name="Rectangle 5"/>
          <p:cNvSpPr/>
          <p:nvPr/>
        </p:nvSpPr>
        <p:spPr>
          <a:xfrm>
            <a:off x="457200" y="1523880"/>
            <a:ext cx="78487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t Ti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a bank account called Journal Entr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is account (Journal Entries) on the top line of each General Journal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Books tracks all the General Journal Entries in a separate register on the Chart of Accounts which allows you to quickly look up and view all your General Journal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ugh you use this account in every General Journal Entry, you will never debit or credit the account and therefore it will never have a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  <p:sp>
        <p:nvSpPr>
          <p:cNvPr id="103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can’t adjust items in the Journal Entry window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you need to adjust items, use a “Zero-Dollar Check”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94c6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ro-Dollar Checks have an equal amount of debits and credits in the splits area of the transaction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2"/>
          <a:stretch/>
        </p:blipFill>
        <p:spPr>
          <a:xfrm>
            <a:off x="1019160" y="1600200"/>
            <a:ext cx="7210440" cy="4629240"/>
          </a:xfrm>
          <a:prstGeom prst="rect">
            <a:avLst/>
          </a:prstGeom>
          <a:ln w="0">
            <a:noFill/>
          </a:ln>
        </p:spPr>
      </p:pic>
      <p:sp>
        <p:nvSpPr>
          <p:cNvPr id="1039" name="Oval 5"/>
          <p:cNvSpPr/>
          <p:nvPr/>
        </p:nvSpPr>
        <p:spPr>
          <a:xfrm>
            <a:off x="1066680" y="4191120"/>
            <a:ext cx="4953240" cy="1295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1041" name="Rectangle 9"/>
          <p:cNvSpPr/>
          <p:nvPr/>
        </p:nvSpPr>
        <p:spPr>
          <a:xfrm>
            <a:off x="30492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saving the General Journal Ent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Edi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Memorize General Journal (or press CTRL+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the fields in Memorize Transaction window to indicate when and how often you want the transaction entered and then click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2" name="Picture 4" descr="C:\Users\DPEMBR~1\AppData\Local\Temp\SNAGHTML1681f3a7.PNG"/>
          <p:cNvPicPr/>
          <p:nvPr/>
        </p:nvPicPr>
        <p:blipFill>
          <a:blip r:embed="rId2"/>
          <a:stretch/>
        </p:blipFill>
        <p:spPr>
          <a:xfrm>
            <a:off x="2017800" y="4191120"/>
            <a:ext cx="5108400" cy="18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17:25:39Z</dcterms:created>
  <dc:creator>The Sleeter Group, Inc.</dc:creator>
  <dc:description/>
  <dc:language>en-US</dc:language>
  <cp:lastModifiedBy>Deborah Pembrook</cp:lastModifiedBy>
  <dcterms:modified xsi:type="dcterms:W3CDTF">2011-12-09T05:56:45Z</dcterms:modified>
  <cp:revision>249</cp:revision>
  <dc:subject/>
  <dc:title>Chapter 9 Adjustments and Year End</dc:title>
</cp:coreProperties>
</file>